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8B5-FC8A-4DD5-B30F-9CDE159F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3A8-0A20-4B64-A745-3AAE6BAC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E9306-599C-400A-B67A-462A5551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E345E-BDAF-4D6E-BEB3-9895B8BE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CCFF5-F49D-48D1-9ADA-5BD549AE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99034-78C2-42A7-AC85-26BD7A80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51661-B082-405E-8509-1C0B0639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F10AB-5C51-46E8-8F20-47D121D1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53707-5FD5-4415-A566-794657C4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2AB5E-0850-4AED-9EAB-25124F5A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F17CA-40F7-4F12-9273-C6158C30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06857-66D5-4CC5-8B8C-5CFA7EC1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2AE-63A8-499C-A9F2-BD595D3C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3C68A-0C2F-4E90-8EFF-A8609832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40FC8-EEB6-4073-8375-2F49C20B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CCF2A-C562-429F-A565-45792DFB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C2ADC-921D-4709-8BE5-6B4E0F32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622AE-363C-4246-8613-2A29A9BB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4C050-FD94-4B24-A76D-A30C1440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9DE03-A447-4383-9124-7A32E0C9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5AFC8-DF4E-4454-A894-AEC004D8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4A420-FB3F-44E9-BA43-A2BA5B69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0CB6E-4C7D-49D8-9820-629992BC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825-E20A-405F-A9BA-15E8CF68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FAB94-2527-4F9F-B2C3-7E56755F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A4CE-C01D-432F-B0F9-19D497D7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8FD4-6646-4D0F-B4E2-CDAF3BCA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BB05-29B3-4499-AE8D-4F867D8E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6DB4-F92C-473C-A3CE-12042182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0236-B405-405A-AFA4-722A4FD5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A6EE-8D25-4A08-8A9C-E613EF69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338F-29BA-4F87-B48A-378ABC5C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2B6-F678-4B7D-800A-7FBD2D0F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FBAD-A159-44DF-8CDE-D790B72E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D611-342E-4208-A67B-4037691B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A290-E936-4252-9959-5EB2C582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56CB-660A-4103-A079-EFD5266D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0A24-D5C5-4B62-A57F-9A20D8CE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3C805-33C3-4342-96E4-860BECDB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58C6-5F7F-43CA-8ECD-DB993F0C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F6018-4C36-49FF-85DF-032D740D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80198-B613-483D-9837-D40A288B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B756D-972D-4B6F-918B-ABC20E1C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DEB-E3B4-4ED7-B1A0-76E8CCFB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4A515-334C-4F4D-984A-5FEE26F1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99AA-36E6-4F29-945F-D39FAFDB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39DD3-EDCB-49E7-AE95-4F51806B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15806-B698-42FD-8119-52EB2C6B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F7369-3B7E-4E9F-9A81-6D40FB37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4BC47-9578-4149-987A-1E60D609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7EE79-D53F-44A8-8C70-F2A5BBB5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35212-3A55-4C87-AF73-0D3C684F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CA8BF-9196-413B-99ED-EAF28A06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FDA30-9F32-4439-BC4F-D1AEC7FC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BA5-40FD-44A9-8CD1-7D571F00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F7066-AD30-443D-90B0-43864E5A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6C1F3-5D5D-4FB3-8E85-814116F4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8A4DB-10A3-481B-B121-206530C9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77A63-26D3-43C0-9B71-33235CC6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D06F-8454-4158-9A46-DBFCC642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90E0D-6B64-4B2E-AF4C-70352E4E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111C1-90F5-4F9B-851C-51912EED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15557-34AE-40FD-B249-4E3865AE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5DE5A-6605-4C83-B0C1-8D5873CA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4B3B3-1C7E-401E-A924-11C1F982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099-C790-4C04-8C86-28AA13BC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6E76E-EBF4-4FD9-ADA9-0295C028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8C168-7113-4C6A-8BFD-8A5FC3B2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66F4A-F91C-4C86-84AE-BA2C3D12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3418F-ABEC-44FC-8238-B4DE30F6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DCFFC-2FBE-412A-9FB3-C085AFB9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924F4-2E31-4359-ADD9-155A0B30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9E8F7-CDD4-4657-91DC-2C495C9B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C51D3-20B0-4F09-A26E-9FF1514A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26B8B-ABAA-4355-A44A-5E80F071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031C5-1DE8-4BC6-94DF-8F1B950B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6D3-BCB4-4FF4-B4F3-880A912E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D5626-FE6D-42AE-82FE-8D728CC8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BEA10-39CA-4366-8C69-2DD9946A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2D535-6042-41CC-A10E-0D2E5DA4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F9A48-DD29-45E0-9A5B-92D2CECC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FD68B-80FF-4619-AEF1-098DD635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922EB-4AC0-43D2-9F70-962AFA31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06135-C18E-49C6-AF27-B67B34C8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8213C-3E1C-407E-AAE8-51720EF8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F8B12-28FA-4AB5-9693-63F106DD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B0CA7-0512-4140-9807-7A528156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CD8-168C-4331-99D6-CA0198E5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3065D-6036-4375-8421-B89D2FD3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1D438-BFDE-4DC8-912A-C7631E45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4AAEF-EC30-482E-900B-81C260D0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61AD2-AFF4-4FDA-9B06-7A01E460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423A9-685D-426A-8925-BDA67B7A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E2409-546E-403B-B4C6-486B16CF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7E07F-E757-4B65-B216-35978983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0B1DF-6C2E-4F11-A68C-CCF3AEB8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13D62-1513-446D-AC36-BD0451B1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A883D-0AE5-4282-8E5C-9F8C91EA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500-FFCC-4401-A9EE-5380F158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D7FB7-FBD8-4985-B903-03BA164B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CBA83-D63C-4C3F-BC37-3B1E1369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DEBA0-D152-42D3-9AB1-BC8F37FB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1CF8D-3EBB-428F-B479-ACA81D63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AA82A-8C7F-48FC-9A08-D4D9E0C1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B31DB-EBCB-442A-B6FD-964A8FD6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F6F59-AC93-444A-B29F-3F30BA91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82E7F-D691-406F-8BCC-2256B376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AC168-C2DB-4467-ADDB-CF11AEC4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62583-299C-457F-B535-38CB42CC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C74-B76D-4A5D-8123-552DEAAD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58E3F-AECF-42FE-9F03-C2774FBA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4E69E-3903-474E-B101-4E3131CB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72EF5-D8D4-4E1C-805C-88C2B86E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C93D9-5423-4432-AE14-B1BC8DFA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B715F-0B25-41AA-89C3-D0799FF1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53474-4FAD-4D8F-80C8-4E3F2045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BBCD8-98B9-4682-9F01-A3A55F76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E76FB-EE6E-42D6-8F52-FF1C25F0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D6D8C-A41E-4D4D-8EE9-6601CA8D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7695C-189E-4786-AF00-6C095E6F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0082-1548-41EB-95F3-BA41665E971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63C1-3093-4E5C-8DC5-ADE5ED602B2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37D4-3F99-43EF-AC81-11B247E6261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B347-02BC-4B54-B4ED-CD3D7127E85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E135-B500-4AF5-8538-6C689339240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BBFB-6568-4BAE-BD34-0E713985FF4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9CB6-E2DB-4300-BA37-00AE3CE0200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33BA-44B3-4D53-9D7E-AA2E73D7F0D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4AA8-87CF-421E-B0DF-176ADBFA7F6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B03B-3356-467C-97DB-E4B67453C4D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6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사과가 있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라디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텔레비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풍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어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5364000" y="388152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사과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있습니까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=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팝니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배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배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사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p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be verb), exist,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주머니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married) woman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저씨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없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no, do not exist, have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also, ~ too; a su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도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한국말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중국말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학교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집에서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창문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연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화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nea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냉면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Naengmye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소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oj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라디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선풍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ectric f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언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남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담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igaret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약속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romi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볼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ll pe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맥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e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카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텔레비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에어컨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ir-condition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오빠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여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창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담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2556000" y="27385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4946760" y="2732040"/>
            <a:ext cx="2209680" cy="14889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3"/>
          <a:stretch/>
        </p:blipFill>
        <p:spPr>
          <a:xfrm>
            <a:off x="6986520" y="248904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"/>
          <p:cNvPicPr/>
          <p:nvPr/>
        </p:nvPicPr>
        <p:blipFill>
          <a:blip r:embed="rId4"/>
          <a:stretch/>
        </p:blipFill>
        <p:spPr>
          <a:xfrm>
            <a:off x="2575080" y="482760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"/>
          <p:cNvPicPr/>
          <p:nvPr/>
        </p:nvPicPr>
        <p:blipFill>
          <a:blip r:embed="rId5"/>
          <a:stretch/>
        </p:blipFill>
        <p:spPr>
          <a:xfrm>
            <a:off x="5292720" y="4627440"/>
            <a:ext cx="2114640" cy="21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9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2"/>
          <a:stretch/>
        </p:blipFill>
        <p:spPr>
          <a:xfrm>
            <a:off x="5202360" y="3419640"/>
            <a:ext cx="1987560" cy="1304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1" descr=""/>
          <p:cNvPicPr/>
          <p:nvPr/>
        </p:nvPicPr>
        <p:blipFill>
          <a:blip r:embed="rId3"/>
          <a:stretch/>
        </p:blipFill>
        <p:spPr>
          <a:xfrm>
            <a:off x="6918480" y="3419640"/>
            <a:ext cx="2185920" cy="14349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"/>
          <p:cNvPicPr/>
          <p:nvPr/>
        </p:nvPicPr>
        <p:blipFill>
          <a:blip r:embed="rId4"/>
          <a:stretch/>
        </p:blipFill>
        <p:spPr>
          <a:xfrm>
            <a:off x="2603520" y="5219640"/>
            <a:ext cx="2952720" cy="1552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"/>
          <p:cNvPicPr/>
          <p:nvPr/>
        </p:nvPicPr>
        <p:blipFill>
          <a:blip r:embed="rId5"/>
          <a:stretch/>
        </p:blipFill>
        <p:spPr>
          <a:xfrm>
            <a:off x="5796000" y="494172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  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볼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3443400" y="2205000"/>
            <a:ext cx="2017440" cy="1511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"/>
          <a:stretch/>
        </p:blipFill>
        <p:spPr>
          <a:xfrm>
            <a:off x="5508720" y="2185920"/>
            <a:ext cx="1590480" cy="1656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7093080" y="2185920"/>
            <a:ext cx="1946160" cy="1457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3467160" y="374976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5"/>
          <a:stretch/>
        </p:blipFill>
        <p:spPr>
          <a:xfrm>
            <a:off x="3443400" y="4894200"/>
            <a:ext cx="1558800" cy="1189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6"/>
          <a:stretch/>
        </p:blipFill>
        <p:spPr>
          <a:xfrm>
            <a:off x="5219640" y="43322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맥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소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카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4500720" y="2766960"/>
            <a:ext cx="2171520" cy="2104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"/>
          <p:cNvPicPr/>
          <p:nvPr/>
        </p:nvPicPr>
        <p:blipFill>
          <a:blip r:embed="rId2"/>
          <a:stretch/>
        </p:blipFill>
        <p:spPr>
          <a:xfrm>
            <a:off x="6676920" y="2766960"/>
            <a:ext cx="1233720" cy="924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"/>
          <p:cNvPicPr/>
          <p:nvPr/>
        </p:nvPicPr>
        <p:blipFill>
          <a:blip r:embed="rId3"/>
          <a:stretch/>
        </p:blipFill>
        <p:spPr>
          <a:xfrm>
            <a:off x="6683400" y="3691080"/>
            <a:ext cx="1233360" cy="9237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"/>
          <p:cNvPicPr/>
          <p:nvPr/>
        </p:nvPicPr>
        <p:blipFill>
          <a:blip r:embed="rId4"/>
          <a:stretch/>
        </p:blipFill>
        <p:spPr>
          <a:xfrm>
            <a:off x="4500720" y="4756320"/>
            <a:ext cx="1218960" cy="2050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"/>
          <p:cNvPicPr/>
          <p:nvPr/>
        </p:nvPicPr>
        <p:blipFill>
          <a:blip r:embed="rId5"/>
          <a:stretch/>
        </p:blipFill>
        <p:spPr>
          <a:xfrm>
            <a:off x="6516720" y="4703760"/>
            <a:ext cx="1558800" cy="1797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05T15:57:37Z</dcterms:modified>
  <cp:revision>95</cp:revision>
  <dc:subject/>
  <dc:title>KOREAN LANGUAGE</dc:title>
</cp:coreProperties>
</file>